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D070-6C1F-41CB-AA9C-1EC5B20F6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0A33-6D76-4689-929E-C7B7E4AB86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28A-E55D-4354-A933-586E5540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3A3-C621-4BF0-BCEE-4390A906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388-B121-4FD5-9499-C72BA016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4F0-BF90-494F-A9BD-72268F7F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48CF-E0F4-447A-AE1D-6CC9F89E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0ACB-AF2D-41DE-A619-AD76DC64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B3AA-229F-4650-B2E9-C01F21B2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9D07-A9D2-46EA-91AC-4B5C13DC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269D-1A9E-41CE-8FC0-79F70B86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2B0A-9B72-423D-8544-EA9E0650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D417-DD0F-490C-B74F-0CD04A50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870-A4E0-4371-BE4F-8614B219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42AD-FD41-4CAC-9B3A-8D91DB67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5A13-703B-453C-B9C4-94469178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41CD-B190-43D2-BDBD-0F393068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B6C5-9798-4C02-AFF4-A506F46F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4757-439E-4A76-B5D8-048E2C6B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4B47-8DF7-415F-809B-743AAFB9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16E62-2E12-4518-BC6E-C511FA79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DA9F5-7370-462B-9411-5DE5A53E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647FE-B790-4DC4-A988-029E4AFA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46EDD-A244-4E65-A968-B9410391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8B5-B52C-484B-B8A5-6FE70DA7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FDE95-5681-4539-943C-62770DE0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D676B-CBEA-4D24-B460-23CC979B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4812B-8F01-493F-920B-ACB91B0C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4513-1EC2-4208-8B48-A95B9D64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11AFC-F161-43DA-8010-BDFE69ED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1F994-A9EB-40AE-8D59-E6EB6AAA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FE901-5361-431E-8227-C66F71FF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953E1-18E2-4B97-8EE0-7EBD5C78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ECB0-39D2-45C0-AEE4-26B9B5D4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580F1-3B71-48EC-8E72-F4311B66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3ED-FC93-4F54-AAE2-7AA08417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3A81D-3558-4E53-A7DE-E5F94346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AB870-3881-4AAC-8607-62147FB4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53BAA-66BA-46FC-B383-46E1C8FF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6FBB2-066F-4D7C-8F5E-1A0C7DD4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D26A5-2A7D-49CB-944C-EAA6050C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64F97-870F-48E2-941B-5CA86A35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CA4D7-6BFC-4435-84C7-779217BA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B3E1D-7A93-4387-A758-9F32C17E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434EF-A065-46E8-BE16-D95771CE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CC7-C817-497B-9741-0A839773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D7D-6EB3-4E25-8134-902CD2C3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E9D-F5B4-42D7-8C2B-D70C6902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3443-4A8D-4DC5-8E1F-59E6F7B0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5BA-7C3D-4D6A-98F4-BF0FACD5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41C8-A7CE-4384-95F4-97519CA775A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AAF8-ACD2-4C51-93A2-3BE69701BE6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BEDC-3000-4A1D-AB89-0739235D971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645A-6B1D-46D8-9D4E-4C3F33842F6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ectangle 2" descr=""/>
          <p:cNvPicPr/>
          <p:nvPr/>
        </p:nvPicPr>
        <p:blipFill>
          <a:blip r:embed="rId1"/>
          <a:stretch/>
        </p:blipFill>
        <p:spPr>
          <a:xfrm>
            <a:off x="36360" y="194472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Ринг хромозом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2133360"/>
            <a:ext cx="50036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Делеција у генетичком смис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ремећај у рас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ака ментална ретард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Ако настај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без делециј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простом фузијом теломерних регио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сиоци углавном немају фенотипске аномал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ring"/>
          <p:cNvPicPr/>
          <p:nvPr/>
        </p:nvPicPr>
        <p:blipFill>
          <a:blip r:embed="rId1"/>
          <a:stretch/>
        </p:blipFill>
        <p:spPr>
          <a:xfrm>
            <a:off x="5791320" y="1523880"/>
            <a:ext cx="1658880" cy="2198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figure12"/>
          <p:cNvPicPr/>
          <p:nvPr/>
        </p:nvPicPr>
        <p:blipFill>
          <a:blip r:embed="rId2"/>
          <a:stretch/>
        </p:blipFill>
        <p:spPr>
          <a:xfrm>
            <a:off x="5172120" y="3843360"/>
            <a:ext cx="32875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упликације 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–чисте парцијалне тризомиј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580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одређеног сегмента у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у,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т</a:t>
            </a:r>
            <a:r>
              <a:rPr b="0" lang="sr-Latn-CS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андем дуплик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може наста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) 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серцијом једне </a:t>
            </a:r>
            <a:r>
              <a:rPr b="1" lang="sr-Latn-CS" sz="2000" spc="-1" strike="noStrike">
                <a:solidFill>
                  <a:srgbClr val="c00000"/>
                </a:solidFill>
                <a:latin typeface="Arial"/>
                <a:ea typeface="Arial"/>
              </a:rPr>
              <a:t>хроматид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у дру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) 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серцијом сегмента са једног ланца </a:t>
            </a:r>
            <a:r>
              <a:rPr b="1" lang="sr-Latn-CS" sz="2000" spc="-1" strike="noStrike">
                <a:solidFill>
                  <a:srgbClr val="c00000"/>
                </a:solidFill>
                <a:latin typeface="Arial"/>
                <a:ea typeface="Arial"/>
              </a:rPr>
              <a:t>ДН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у дру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) 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серцијом сегмената из хомологог </a:t>
            </a:r>
            <a:r>
              <a:rPr b="1" lang="sr-Latn-CS" sz="20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упликација настаје и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н</a:t>
            </a:r>
            <a:r>
              <a:rPr b="0" lang="sr-Latn-CS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еправилним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crossing over-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ање оштећују фенотип него деле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н 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емоглобин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H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302436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-1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Изохромозом</a:t>
            </a:r>
            <a:r>
              <a:rPr b="0" lang="sr-Latn-CS" sz="5000" spc="-1" strike="noStrike">
                <a:solidFill>
                  <a:srgbClr val="dbf5f9"/>
                </a:solidFill>
                <a:latin typeface="Arial"/>
                <a:ea typeface="Arial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5280" y="1152360"/>
            <a:ext cx="889344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ада се центромера грешком подели попречно 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crossw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o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6, Xi (X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1739880" y="2708280"/>
            <a:ext cx="58564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491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25280" y="1341000"/>
            <a:ext cx="889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о настаје спонтано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услед делеције теломера два хромозома а затим њиховом транслокацијом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буду стабилни  у хромозомском се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2"/>
          <a:stretch/>
        </p:blipFill>
        <p:spPr>
          <a:xfrm>
            <a:off x="4970520" y="3424320"/>
            <a:ext cx="3578040" cy="3382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3"/>
          <a:stretch/>
        </p:blipFill>
        <p:spPr>
          <a:xfrm>
            <a:off x="549360" y="3503520"/>
            <a:ext cx="4114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5520" y="13608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Инверзиј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99128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Настају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с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два прекида у оквиру једног хромозома и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кретања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сегмента између прекида за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180</a:t>
            </a:r>
            <a:r>
              <a:rPr b="0" lang="sr-Latn-CS" sz="24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858920" y="4581000"/>
            <a:ext cx="3970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 B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C D E F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 H I 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 B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F E D C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 H I 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1090440" y="2852640"/>
            <a:ext cx="33591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parainv"/>
          <p:cNvPicPr/>
          <p:nvPr/>
        </p:nvPicPr>
        <p:blipFill>
          <a:blip r:embed="rId2"/>
          <a:stretch/>
        </p:blipFill>
        <p:spPr>
          <a:xfrm>
            <a:off x="4716360" y="2060640"/>
            <a:ext cx="2892600" cy="3168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periinv"/>
          <p:cNvPicPr/>
          <p:nvPr/>
        </p:nvPicPr>
        <p:blipFill>
          <a:blip r:embed="rId3"/>
          <a:stretch/>
        </p:blipFill>
        <p:spPr>
          <a:xfrm>
            <a:off x="1692360" y="2060640"/>
            <a:ext cx="2936880" cy="3240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8"/>
          <p:cNvSpPr/>
          <p:nvPr/>
        </p:nvSpPr>
        <p:spPr>
          <a:xfrm>
            <a:off x="1547640" y="4797360"/>
            <a:ext cx="3095640" cy="703800"/>
          </a:xfrm>
          <a:prstGeom prst="rect">
            <a:avLst/>
          </a:prstGeom>
          <a:solidFill>
            <a:srgbClr val="fbda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ерицентрична инвер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788000" y="4797360"/>
            <a:ext cx="2663640" cy="703800"/>
          </a:xfrm>
          <a:prstGeom prst="rect">
            <a:avLst/>
          </a:prstGeom>
          <a:solidFill>
            <a:srgbClr val="fbda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арацентрична инвер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440856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перицентричн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инверзија</a:t>
            </a:r>
            <a:endParaRPr b="0" lang="en-US" sz="25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356000" y="514080"/>
            <a:ext cx="4859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парацентрична инверзиј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INVERZIJE"/>
          <p:cNvPicPr/>
          <p:nvPr/>
        </p:nvPicPr>
        <p:blipFill>
          <a:blip r:embed="rId1"/>
          <a:stretch/>
        </p:blipFill>
        <p:spPr>
          <a:xfrm>
            <a:off x="-468360" y="1251000"/>
            <a:ext cx="96123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Генетички ризици за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потомство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1934640"/>
            <a:ext cx="4038480" cy="45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c00000"/>
                </a:solidFill>
                <a:latin typeface="Arial"/>
                <a:ea typeface="Arial"/>
              </a:rPr>
              <a:t>Перицентрична инв</a:t>
            </a:r>
            <a:r>
              <a:rPr b="0" lang="sr-CS" sz="2500" spc="-1" strike="noStrike">
                <a:solidFill>
                  <a:srgbClr val="c00000"/>
                </a:solidFill>
                <a:latin typeface="Arial"/>
                <a:ea typeface="Arial"/>
              </a:rPr>
              <a:t>ерзиј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25% нормално дет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25% нормално дет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-   </a:t>
            </a:r>
            <a:r>
              <a:rPr b="1" i="1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носилац инверзиј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50% фенотипски и генотипски абнормално дет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4720" y="1935000"/>
            <a:ext cx="48592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c00000"/>
                </a:solidFill>
                <a:latin typeface="Arial"/>
                <a:ea typeface="Arial"/>
              </a:rPr>
              <a:t>Парацентрична инв</a:t>
            </a:r>
            <a:r>
              <a:rPr b="0" lang="sr-CS" sz="2500" spc="-1" strike="noStrike">
                <a:solidFill>
                  <a:srgbClr val="c00000"/>
                </a:solidFill>
                <a:latin typeface="Arial"/>
                <a:ea typeface="Arial"/>
              </a:rPr>
              <a:t>ерзиј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 нормално дете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  <a:ea typeface="Arial"/>
              </a:rPr>
              <a:t>  (50%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 генотипски аб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ормално дете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  <a:ea typeface="Arial"/>
              </a:rPr>
              <a:t>, фенотипски нормално        (50%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50% гамета пропада -25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који имају дицентик и 25% ацентрик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  <a:ea typeface="Arial"/>
              </a:rPr>
              <a:t>  или и ако се деси оплођење ембриони завршавају као рани спонтани побачај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Транспозициј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18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мештање групе гена са једног места на хромозому на друго место, у оригиналној позициј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  B </a:t>
            </a:r>
            <a:r>
              <a:rPr b="1" lang="sr-Latn-CS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C D E</a:t>
            </a:r>
            <a:r>
              <a:rPr b="0" lang="sr-Latn-CS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 G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A B F G </a:t>
            </a:r>
            <a:r>
              <a:rPr b="1" lang="sr-Latn-CS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C D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Транслокациј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ена генетичког материјала између два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нехомолог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озо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јава да се један хромозом или један његов д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транслоци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друг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гу да буд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ципроч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обертсоно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реципро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транслокације (инсерциј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445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ТРУКТУРНЕ АБЕРАЦИЈ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934640"/>
            <a:ext cx="878544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руктурне абераци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 су п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омене у грађи хромозома које су условљене прекидима и поремећајима линеарног континуитета хромозом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киди могу бит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6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CS" sz="2600" spc="-1" strike="noStrike">
                <a:solidFill>
                  <a:srgbClr val="c00000"/>
                </a:solidFill>
                <a:latin typeface="Arial"/>
              </a:rPr>
              <a:t>Хромозомск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G</a:t>
            </a:r>
            <a:r>
              <a:rPr b="1" lang="sr-CS" sz="2600" spc="-1" strike="noStrike" baseline="-25000">
                <a:solidFill>
                  <a:srgbClr val="c00000"/>
                </a:solidFill>
                <a:latin typeface="Arial"/>
              </a:rPr>
              <a:t>1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фаз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6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2600" spc="-1" strike="noStrike">
                <a:solidFill>
                  <a:srgbClr val="c00000"/>
                </a:solidFill>
                <a:latin typeface="Arial"/>
              </a:rPr>
              <a:t>Хроматид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– у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G</a:t>
            </a:r>
            <a:r>
              <a:rPr b="1" lang="sr-CS" sz="26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фаз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6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CS" sz="2600" spc="-1" strike="noStrike">
                <a:solidFill>
                  <a:srgbClr val="c00000"/>
                </a:solidFill>
                <a:latin typeface="Arial"/>
              </a:rPr>
              <a:t>Изохроматидн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CS" sz="2600" spc="-1" strike="noStrike">
                <a:solidFill>
                  <a:srgbClr val="c00000"/>
                </a:solidFill>
                <a:latin typeface="Arial"/>
              </a:rPr>
              <a:t>обе сестринске хроматид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6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6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</a:rPr>
              <a:t>Фрагилна мест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– региони хромозома подложни прекидима (хромозоми:1, 2, 10, 11, 12, 16, 17, 20, Х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ципрочна транслокација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764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острана размен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егменат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ђу оба пара нехомологих хромозом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хомозиготна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хетерозиготна</a:t>
            </a:r>
            <a:r>
              <a:rPr b="1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су безазлене 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сиоца, али носе значај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изик за формирањ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берантних гам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че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ост:  1: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" descr=""/>
          <p:cNvPicPr/>
          <p:nvPr/>
        </p:nvPicPr>
        <p:blipFill>
          <a:blip r:embed="rId1"/>
          <a:stretch/>
        </p:blipFill>
        <p:spPr>
          <a:xfrm>
            <a:off x="4284720" y="2292480"/>
            <a:ext cx="4751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Object 2"/>
          <p:cNvGraphicFramePr/>
          <p:nvPr/>
        </p:nvGraphicFramePr>
        <p:xfrm>
          <a:off x="755640" y="-20520"/>
          <a:ext cx="7993080" cy="66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-20520"/>
                    <a:ext cx="7993080" cy="66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fig%201-6"/>
          <p:cNvPicPr/>
          <p:nvPr/>
        </p:nvPicPr>
        <p:blipFill>
          <a:blip r:embed="rId1"/>
          <a:stretch/>
        </p:blipFill>
        <p:spPr>
          <a:xfrm>
            <a:off x="1042920" y="1916280"/>
            <a:ext cx="6913800" cy="4667040"/>
          </a:xfrm>
          <a:prstGeom prst="rect">
            <a:avLst/>
          </a:prstGeom>
          <a:ln w="0">
            <a:noFill/>
          </a:ln>
        </p:spPr>
      </p:pic>
      <p:pic>
        <p:nvPicPr>
          <p:cNvPr id="254" name="Rectangle 5" descr=""/>
          <p:cNvPicPr/>
          <p:nvPr/>
        </p:nvPicPr>
        <p:blipFill>
          <a:blip r:embed="rId2"/>
          <a:stretch/>
        </p:blipFill>
        <p:spPr>
          <a:xfrm>
            <a:off x="0" y="27468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енетички ризици за потомство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0560" y="1557360"/>
            <a:ext cx="4249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Теоретск</a:t>
            </a:r>
            <a:r>
              <a:rPr b="0" lang="sr-R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0% потомака са небалансираном транслокациј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5% носилаца балансиране транслок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5% генотипски и фенотипски нормал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00720" y="1557360"/>
            <a:ext cx="464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ракса је показ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% генотипски и фенотипски аберантних ако је мајка носила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% аберантних ако је отац носилац транслок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Arial"/>
                <a:ea typeface="Arial"/>
              </a:rPr>
              <a:t>Реципрочне транслокације могу активирати протоонкогене: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360" y="2421000"/>
            <a:ext cx="421164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. </a:t>
            </a:r>
            <a:r>
              <a:rPr b="0" lang="sr-CS" sz="2600" spc="-1" strike="noStrike">
                <a:solidFill>
                  <a:srgbClr val="ff0000"/>
                </a:solidFill>
                <a:latin typeface="Arial"/>
                <a:ea typeface="Arial"/>
              </a:rPr>
              <a:t>Филаделфија хромозом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реципрочна транслокација између хромозома 9 и 22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зрокује </a:t>
            </a:r>
            <a:r>
              <a:rPr b="0" lang="sr-CS" sz="2600" spc="-1" strike="noStrike">
                <a:solidFill>
                  <a:srgbClr val="0070c0"/>
                </a:solidFill>
                <a:latin typeface="Arial"/>
                <a:ea typeface="Arial"/>
              </a:rPr>
              <a:t>хроничну мијелоидну леукемиј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Trans_9_22"/>
          <p:cNvPicPr/>
          <p:nvPr/>
        </p:nvPicPr>
        <p:blipFill>
          <a:blip r:embed="rId1"/>
          <a:srcRect l="0" t="0" r="0" b="20756"/>
          <a:stretch/>
        </p:blipFill>
        <p:spPr>
          <a:xfrm>
            <a:off x="4500720" y="2421000"/>
            <a:ext cx="4498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5524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обертсонове транслокације-центричне фузије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3000" y="1988640"/>
            <a:ext cx="47163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анслокације између два 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акроцентричн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озо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гу да бу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хомолог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x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етероло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(нехомолог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cfusion"/>
          <p:cNvPicPr/>
          <p:nvPr/>
        </p:nvPicPr>
        <p:blipFill>
          <a:blip r:embed="rId1"/>
          <a:stretch/>
        </p:blipFill>
        <p:spPr>
          <a:xfrm>
            <a:off x="4572000" y="4797360"/>
            <a:ext cx="4032360" cy="1459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the acrocentric chromosomes"/>
          <p:cNvPicPr/>
          <p:nvPr/>
        </p:nvPicPr>
        <p:blipFill>
          <a:blip r:embed="rId2"/>
          <a:stretch/>
        </p:blipFill>
        <p:spPr>
          <a:xfrm>
            <a:off x="4986360" y="2214720"/>
            <a:ext cx="4152960" cy="22669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6535800" y="4924440"/>
            <a:ext cx="990360" cy="477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Arial"/>
              </a:rPr>
              <a:t>Центрич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Arial"/>
              </a:rPr>
              <a:t>фузиј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945040" y="1660680"/>
            <a:ext cx="1676520" cy="459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Акроцентрични хромозо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Хомологе 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Робертсонове транслокациј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2060640"/>
            <a:ext cx="914400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ља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анслокације између два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хомолога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роцентрична хромозом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ђ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1 21, 22 22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5 15..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4"/>
          <p:cNvPicPr/>
          <p:nvPr/>
        </p:nvPicPr>
        <p:blipFill>
          <a:blip r:embed="rId1"/>
          <a:stretch/>
        </p:blipFill>
        <p:spPr>
          <a:xfrm>
            <a:off x="2050920" y="3357720"/>
            <a:ext cx="5042160" cy="35002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4067280" y="5157720"/>
            <a:ext cx="1066680" cy="307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ејо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219640" y="4653000"/>
            <a:ext cx="1295640" cy="398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Arial"/>
              </a:rPr>
              <a:t>Робертсонова транслокациј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2484360" y="4869000"/>
            <a:ext cx="1671840" cy="246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Arial"/>
              </a:rPr>
              <a:t>Нормална ћелиј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Хетерологе 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Робертсонове транслокациј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74" name="Picture 7" descr="image005"/>
          <p:cNvPicPr/>
          <p:nvPr/>
        </p:nvPicPr>
        <p:blipFill>
          <a:blip r:embed="rId1"/>
          <a:stretch/>
        </p:blipFill>
        <p:spPr>
          <a:xfrm>
            <a:off x="1763640" y="3573360"/>
            <a:ext cx="4638600" cy="2505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324000" y="184464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ља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анслокације између два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хомолога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роцентрична хромозома хромозом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ђ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5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обертсонова транслокација 1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 приказ могућих комбинација хромозома у гаметима који настају у мејози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179280" y="1692360"/>
            <a:ext cx="82090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252000" cy="52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лоцира се генетички материјал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а једног на друг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ромоз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или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а једног места на друго на истом хромозом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П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отребна су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Т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прекида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 на 2 хромозом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на једном се десе 2 преки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а на другом 1 преки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1" descr=""/>
          <p:cNvPicPr/>
          <p:nvPr/>
        </p:nvPicPr>
        <p:blipFill>
          <a:blip r:embed="rId2"/>
          <a:stretch/>
        </p:blipFill>
        <p:spPr>
          <a:xfrm>
            <a:off x="4565520" y="2997360"/>
            <a:ext cx="4641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труктурне промене могу бити: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834920" y="2204640"/>
            <a:ext cx="51181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Arial"/>
              </a:rPr>
              <a:t>1. интрахромозом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Arial"/>
              </a:rPr>
              <a:t>2. интерхромозом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148360" y="3573360"/>
            <a:ext cx="3168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b5395"/>
                </a:solidFill>
                <a:latin typeface="Arial"/>
              </a:rPr>
              <a:t>1. стабил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b5395"/>
                </a:solidFill>
                <a:latin typeface="Arial"/>
              </a:rPr>
              <a:t>2. нестабил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3716280"/>
            <a:ext cx="40384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1. балансир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2. небалансир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2376360" y="5084640"/>
            <a:ext cx="5435640" cy="14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наслеђене (фамилијар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ненаслеђене, нове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Latn-RS" sz="2800" spc="-1" strike="noStrike">
                <a:solidFill>
                  <a:srgbClr val="ff0000"/>
                </a:solidFill>
                <a:latin typeface="Arial"/>
              </a:rPr>
              <a:t>de no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7138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Узроци прекида хромозома: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Спонтани прекид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Кластогени (чиниоци спољашње средине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зрачењ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хемијски агенс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вирус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Генетички узроц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Врсте структурних аберација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99640" y="2707920"/>
            <a:ext cx="55292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ЕЛЕ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УПЛИК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ИНВЕРЗ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АНСЛОК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Делеција - парцијална монозомиј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.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Чисте делеције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стају ка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дица прекида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у и губитка прекинутог 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ерминалне делеције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стаје ка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дица  преки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у теломери хромозо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инг хромо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стаје услед прекида на обе теломере хромозома и спајања прекинутих крајева у прстенасту структу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терстицијална делециј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ста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след два прек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у нивоу једног кра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а се фрагмент између прекида губ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5p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4p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9p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2. Делеције у комбинацији са дупликациј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0" descr="rin_chrom"/>
          <p:cNvPicPr/>
          <p:nvPr/>
        </p:nvPicPr>
        <p:blipFill>
          <a:blip r:embed="rId1"/>
          <a:stretch/>
        </p:blipFill>
        <p:spPr>
          <a:xfrm>
            <a:off x="179280" y="2316240"/>
            <a:ext cx="3961080" cy="40989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"/>
          <p:cNvSpPr/>
          <p:nvPr/>
        </p:nvSpPr>
        <p:spPr>
          <a:xfrm>
            <a:off x="0" y="692280"/>
            <a:ext cx="88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Шематски приказ настанка ринг (прстенастог) хромозома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стицијалне деле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2"/>
          <a:srcRect l="0" t="17065" r="0" b="0"/>
          <a:stretch/>
        </p:blipFill>
        <p:spPr>
          <a:xfrm>
            <a:off x="4551480" y="2781360"/>
            <a:ext cx="4295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682560" y="549360"/>
            <a:ext cx="7778880" cy="1071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78920" y="2133360"/>
            <a:ext cx="5219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неправилног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crossing over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када се хомологи хромозоми асиметрично поставе један наспрам другог, па се деш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ing ove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еђу     нехомологим сегментима хомологих хромозо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 резулатат настају два аберантна хромозома, један  са делецијом а други са дупликациј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unequal"/>
          <p:cNvPicPr/>
          <p:nvPr/>
        </p:nvPicPr>
        <p:blipFill>
          <a:blip r:embed="rId2"/>
          <a:stretch/>
        </p:blipFill>
        <p:spPr>
          <a:xfrm>
            <a:off x="5508720" y="2133720"/>
            <a:ext cx="3384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ец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синдроми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1915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еције су увек штетн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ri du chat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р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olff-ов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ндр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р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Тумор ретине ок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Grouchy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р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Grouch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инг хромоз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охромоз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Olivera Milošević-Đorđević</cp:lastModifiedBy>
  <dcterms:modified xsi:type="dcterms:W3CDTF">2022-01-18T19:13:24Z</dcterms:modified>
  <cp:revision>211</cp:revision>
  <dc:subject/>
  <dc:title>MUTACIJE GENA</dc:title>
</cp:coreProperties>
</file>